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C1D4-2FE3-40AD-A470-F87F80BF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6AC1-37CD-4266-8A88-CDED5F08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1E5C-8EE4-4A3B-A60C-7706D8887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7B14-BE78-45BB-B6DF-1B74549B9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E34F-8100-4DE3-AA94-2A118D8A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C562-5F39-4C29-B9D4-90EEB8FE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D33B-A158-4E3F-932D-4E0704E1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2925-0558-47B1-98D0-9739D0FC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A7EF-3148-4972-BF3E-DFCCAD63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B267-56BD-4A73-A1EA-2A639D5F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CAB5-C933-4A62-BBD9-23120E95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3C27-18E8-48EE-AB0D-8F6CB9BA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C983-502C-4014-89DA-285C881BC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ROCAS IGNEAS</a:t>
            </a:r>
            <a:br>
              <a:rPr sz="3200"/>
            </a:b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(se originan a partir de la solidificación de un mag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L MAGMA ES UN PRODUCTO DE LA DINÁMICA DE LOS MÁRGENES DE PLACAS,  ORIGINADO POR FUSIÓN PARCIAL DE LA CORTEZA INFERIOR   y/o  MANTO SUPERIOR,  USUALMENTE  A PROFUNDIDADES QUE VARÍAN ENTRE  50  a  200  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S CAPAZ  DE MOVERSE   EN LA CORTEZA,  PENETRANDO  A TRAVÉS DE ELL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COMO LA MAYORÍA DE LOS FLUIDOS, EL MAGMA TIENE  MENOR DENSIDAD QUE EL SÓLIDO DEL CUAL SE FORMA, Y POR LA FUERZA DE FLOTABILIDAD  TIENDE A MIGRAR HACIA  ARRIBA  A  TRAVÉS DEL MANTO Y LA CORTEZA  (proceso de intrusión:  penetra en las rocas superiores,  por inyección en las fracturas;  presiona y empuja las rocas superiores formando un domo;  funde y asimila las rocas que inv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S ROCAS IGNEAS  SON  REGISTROS  DE  LA  HISTORIA  TERMAL  DE  LA TIERRA.  SU  ORIGEN  ESTÁ  ASOCIADO   ESTRECHAMENTE  AL MOVIMIENTO  DE  PLACAS  TECTÓNICAS  Y   JUEGAN  UN   ROL IMPORTANTE  EN   LA  EXPANSIÓN  DE   LOS  FONDOS  OCEÁNICOS,   EN  EL ORIGEN  DE  LAS  MONTAÑAS,   Y  EN   LA   EVOLUCIÓN  DE  LOS CONTINEN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S  MEJORES  EJEMPLOS  CONOCIDOS  DE   LA ACTIVIDAD   IGNEA  SON  LAS  ERUPCIONES  VOLCÁNICAS,   DÓNDE  MATERIAL   ROCOSO  LÍQUIDO  SE  ABRE  CAMINO  HACIA   LA  SUPERFICIE   HASTA  ERUPTAR  A  TRAVÉS  DE  LOS  CENTROS  (  O  DUCTOS)   Y   FISUR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NOS   ESPECTACULAR ,   PERO  TAN  IMPORTANTE  O   MAS,   SON   LOS TREMENDOS   VOLÚMENES  DE  ROCA   LÍQUIDA   QUE  NUNCA   LLEGA  A  LA SUPERFICIE,   PORQUE   PERMANECE   ATRAPADA  EN  LA CORTEZA,   A  CIERTA   DISTANCIA   DE  LA  SUPERFICIE,   DÓNDE  SE   ENFRÍA   LENTAMENTE   HASTA  SOLIDIFCARSE   DE   MANERA  CRISTALI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  GRANITO  ES  LA  VARIEDAD  MAS   COMÚN   DE  ESTE   TIPO  DE  ROCA  Y   ESTÁ   COMÚNMENTE   EXPUESTA   EN    LAS  CADENAS  DE  MONTAÑAS  QUE   HAN  SIDO   ERODADAS,    Y  EN  LAS RAICES DE   LOS  SISTEMAS  DE   MONTAÑAS  QUE  SE   PRESENTAN   EN   LOS   ESUD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22860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L DESPLAZAMIENTO DEL MAGMA SE  DETIENE   CUANDO  SU DENSIDAD  LLEGA  A  EQUILIBRARSE  CON LA DE LAS ROCAS CIRCUNDANTES,  O DONDE LAS ROCAS DEL TECHO SON DEMASIADO RESISTENTES PARA PERMITIR QUE EL MAGMA CONTINÚE  SU DESPLAZAMIENTO  PENETRANDO  MAS ALLÁ DE 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VENTUALMENTE,  EL MAGMA SE ENFRÍA PAULATINAMENTE Y CRISTALIZA ANTES DE ALCANZAR LA SUPERFICIE TERRESTRE,  PARA  FORMAR CUERPOS DE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S IGNEAS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,  llamadas también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S INTRUSIVAS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. SI ÉSTAS SE FORMAN CERCANAS A LA SUPERFICIE SE LES DENOMINA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HIPABISALES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Y SI LO HACEN A MAYOR PROFUNDIDAD         (&gt; 3 km) 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PLUTÓN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SI EL MAGMA  LOGRA ASCENDER HASTA SALIR A LA SUPERFICIE TERRESTRE, SE ENFRÍA RÁPIDAMENTE PARA FORMAR CUERPOS DE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S IGNEAS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,  llamadas también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S EXTRUSIVAS 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o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VOLCÁNICAS.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SI LA EXTRUSIÓN SE HACE DE MANERA  “TRANQUILA”,  A TRAVÉS DE UN CONDUCTO CENTRAL O FISURAL, EL MATERIAL  EXTRUÍDO PUEDE  FLUIR SOBRE EL PAISAJE  EN UNA COLADA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LAVA, 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FORMANDO UNA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 IGNEA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DENOMINADA TAMBIÉN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 EFUSIV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N CASO CONTRARIO,  SI EL MAGMA EXTRUYE DE MANERA MENOS “TRANQUILA”,  PUEDE HACERLO EN FORMA EXPLOSIVA,  EXPLUSANDO  FRAGMENTOS   SÓLIDOS  LLAMADOS   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Bookman Old Style"/>
              </a:rPr>
              <a:t>PIROCLASTOS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. 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stos  fragmentos  forman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las denominadas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ROCAS PIROCLÁS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LOS CUERPOS O ESTRUCTURAS ASOCIADOS A  ROCAS IGNEAS INTRUSIVAS SON: 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BATOLITO, STOCK, DIQUE, FILÓN -MA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LOS CUERPOS O ESTRUCTURAS ASOCIADAS A ROCAS IGNEAS EXTRUSIVAS SON: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COLADA  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(de morfología y apariencia diferente, según la composición) y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 ESTRATO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(en caso de ciertas rocas piroclástic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EL MAG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EL MAGMA: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ES  UN  MATERIAL SILICATADO FUNDIDO  (líquido + gases + crista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LOS  ELEMENTOS CONSTITUYENTES  PRINCIPALES  SON:  Si, O, Al, Ca, Fe, Mg, Na,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LAS   PROPIEDADES   FÍSICAS   DEL   MAGMA,   como   la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densidad,  la  viscosidad,  y  la  manera de extruir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,   SON CONTROLADAS  AMPLIAMENTE  POR  LOS CONSTITUYENTES   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SI O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  y  H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 O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.    LA   PROPORCIÓN  DEL  CONSTITUYENTE   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Si O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  DE  LA  COMPOSICIÓN QUÍMICA  DEL  MAGMA ES VARIABLE,  ENTRE  EL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33%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y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75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LA EXPLOSIVIDAD  ES  CONTROLADA  POR  LOS  GASES DISUELTOS  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(C O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  y  H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 O;  S O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, H Cl....),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QUE PUEDEN LLEGAR  HASTA  14 %   EN  VOLUME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30456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NO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OBSTANTE LA  GRAN VARIEDAD EN SU COMPOSICIÓN DEL MAGMA,  SE PUEDE  ILUSTRAR MUCHO SOBRE MAGMAS SILICATADOS EXAMINADO SÓLO DOS TIPOS EXTREMOS: 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MAGMA  MÁFICO 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Y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MAGMA  SILÍCEO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Bookman Old Style"/>
              </a:rPr>
              <a:t>MAGMA MÁFICO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: contiene  (+ o -)  50 %  de  Si O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y   un rango de temperatura de 900° a 1200°  C .  PRODUCE ROCAS DE LA FAMILIA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GABRO - BASALTO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(Ca-plagioclasa y piroxeno, con menor cantidad de olivino y sin, o muy poco,  cuarzo).  SE GENERA POR FUSIÓN PARCIAL DEL MANTO (en Rift - zona). ES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MUY FLUI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Bookman Old Style"/>
              </a:rPr>
              <a:t>MAGMA SILÍCEO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: contiene  65 % Y 75 %  de  Si O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con temperatura generalmente bajo 850° C.   PRODUCE ROCAS DE LA FAMILIA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GRANITO - RIOLITA 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(cuarzo, K-feldespato, Na-plagioclasa, menor cantidad de biotita o anfíbola).  SE GENERA POR FUSIÓN PARCIAL DE CORTEZA OCEÁNICA Y PARTE INFERIOR DE CORTEZA CONTINENTAL  ( en zona de subducción).  ES 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MUY VISCO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304920"/>
            <a:ext cx="77724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Bookman Old Style"/>
              </a:rPr>
              <a:t>UN MAGMA DE COMPOSICIÓN  INTERMEDIO 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(entre alto y bajo contenido de Si O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)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 PRODUCE ROCAS DE LA FAMILIA  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DIORITA - ANDES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LA DIFERENTE COMPOSICIÓN  QUÍMICA DE LOS MAGMAS, DESDE  BASÁLTICOS (o  máficos) A GRANÍTICOS,  PASANDO POR LOS DIORÍTICOS,  FORMAN ROCAS CON MINERALES DIFERENTES Y DAN ORÍGEN  A ERUPCIONES VOLCÁNICAS  DIFERENTES. EN UN EXTREMO ERUPCIONES ”TRANQUILAS”, CON SÓLO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FLUJOS DE LAVA 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Y  EN EL OTRO EXTREMO ERUPCIONES “VIOLENTAS”  Y EXPLOSIVAS, CON SÓLO EXPULSIÓN DE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PIROCLASTOS.  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LA ERUPCIÓN  MIXTA,  EFUSIVA Y PIROCLÁSTICA, SE ASOCIA CON MAGMAS DE COMPOSICIÓN INTERMEDIO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EL EDIFICIO VOLCÁNICO (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VOLCÁN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)  QUE RESULTA A PARTIR DE LOS DIFERENTES TIPOS DE ERUPCIONES QUE OCURREN,  PRESENTAN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FORMAS O ESTRUCTURAS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  DIFERENTES.  TANTO EL TIPO DE ERUPCIÓN COMO LA FORMA DEL VOLCAN RESULTANTE SE CLASIFICAN DE ACUERDO A PARÁMETROS  DEFIN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vidad Volcá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RUPCIONES  BASÁLTICAS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ON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S COMUNES. RELLENAN VALLES Y DEPRESIONES TOPOGRÁFICAS. EXTRUYEN DE FRACTURAS Y FISURAS (en dorsales). FORMAN NUEVA CORTEZA OCEÁNICA DONDE SE SEPARAR LAS PLA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IPOS COMUNES DE COLADA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:  “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aa”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(poco gas; movimiento lento; 3-10  m espesor).  “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Pahoehoe”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(menor  espesor (1 m); repliegues o rollos de cuerda; tubos de lava). Lavas vesiculares (burbujas de gas). Lavas masivas y no vesiculares, con fracturas poligonales (“columnas” hexagonales “). Pillow-lava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LUJOS DE CENIZ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NUBES  ARDIENT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:   hasta 250 km/ hora;   400  km extensión;  100 m espesor  (son catastróficas). dan  origen  a  una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IGNIMBRITA.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. LA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CAÍDA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 o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“LLUVIA”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  CENIZ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da  origen  a  la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TEF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TAMAÑO  DE  LOS  PIROCLASTOS  ES  VARIABLE:  DESDE  </a:t>
            </a:r>
            <a:r>
              <a:rPr b="0" lang="es-ES_tradnl" sz="1600" spc="-1" strike="noStrike" u="sng">
                <a:solidFill>
                  <a:srgbClr val="ffffff"/>
                </a:solidFill>
                <a:uFillTx/>
                <a:latin typeface="Times New Roman"/>
              </a:rPr>
              <a:t>CENIZA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FIN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(&lt; 1/16 mm);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CENIZA GRUES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(16 - 2 mm); 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PILLI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(2 - 64 mm);  Y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BOMB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O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BLOQU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(&gt; 64 mm).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ROCAS  PRIROCLÁSTICAS  QUE  SE  ORIGINAN,       RESPECTIVAMENTE,  SON: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TOBA,    BRECHA   Y   AGLOM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POS DE ERUPCIONES VOLCÁN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5331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HAWAIANA: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ÓLO FLUJOS (escasos piroclásticos); LAGOS DE LAVA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TROMBLIANA: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XPLOSIVA (descargas rítmicas de escoria incandecente; bomb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VULCANIANA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LUJOS PIROCLÁSTICOS, NUBES OSCURAS,  FREÁTICA (vap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ELEANA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XPLOSIVA VIOLENTA; FORMA DOMOS Y “AGUJA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LINIANA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INCIPALMENTE GASEOSA, CONTÍNUA, NUBE DE PÓM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FREATOMAGMÁTICA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GMA + AGUA= ERUPCIÓN VIOLENTA ÚNICA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FORMAS VOLCÁ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SCUDOS VOLCÁN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hasta 100 Km de diámetro y  10 km de altu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ONOS CINERÍT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 30 - 300 m de al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DOMOS DE LAVA SILÍCE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AGUJAS MÚLTIPLES (ESPINAS) DE 500 - 8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VOLCÁN COMPUES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(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IXTO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base: 30 -40 km   y  3000 m (o más)  al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ALDERA Y LAGO VOLCÁNICO (SOM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AARS: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crater de explosión pequeño al atravesar nivel freá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CTIVIDAD FUMARÓLICA (H2O,HCl,CO2), SOLFATÁRICA (H2S,SO2), GEYSERS Y FUENTES TER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696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X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685440"/>
            <a:ext cx="85345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PARIENCIA GENERAL DE LA ROCA,   DETERMINADA  POR   LA RELACIÓN  DE   TAMAÑO,   FORMA  Y  ARREGLO  GEOMÉTRICO   DE  LOS  ELEMENTOS  O  GRANOS  DE  MINERALES   CONSTITUY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PRINCIPALES FACTORES QUE INCIDEN EN LA TEXTURA DE LAS ROCAS SON LA PROFUNDIDAD A LA QUE SOLIDIFICA EL MAGMA Y EL TIEMPO QUE  TIENE  PARA HACERLO  (velocidad de enfriami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TEXTURAS  SE PUEDEN CLASIFICAR  DE ACUERDO CON EL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GRADO DE CRISTALINIDAD, TAMAÑO DEL GRANO y  TAMAÑO RELATIVO DEL GRAN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TEXTURAS PRINCIPALES O  MAYORES SON: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VITREA, AFANÍTICA, FANERÍTICA, PORFÍRIC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DIFERENTES TIPOS DE ROCAS IGNEAS SE CLASIFICAN EN BASE A SUS TEXTURAS, ADEMÁS DE SU COMPOS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6:53:25Z</dcterms:created>
  <dc:creator>Universidad de Chile</dc:creator>
  <dc:description/>
  <dc:language>en-US</dc:language>
  <cp:lastModifiedBy>Compaq</cp:lastModifiedBy>
  <cp:lastPrinted>2001-03-28T23:16:59Z</cp:lastPrinted>
  <dcterms:modified xsi:type="dcterms:W3CDTF">2001-08-16T05:39:10Z</dcterms:modified>
  <cp:revision>41</cp:revision>
  <dc:subject/>
  <dc:title>ROCAS IGNEAS (se originan a partir de la solidificación de un magma)</dc:title>
</cp:coreProperties>
</file>